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983B-0D78-44D3-83A5-B9774E826F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FA68-5C06-449D-AE2A-AD3FB8D8225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B304-4FF5-43E0-BD29-77F0F1EF43C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D03B-4AFE-4A85-83D4-D74C6A74C22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9802-0B38-428A-B6A3-AD9741EB7B5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5A32-9D00-4D02-A54B-54BA32ADCD4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A458-CD7E-4919-A432-11884AD44DF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393F-D031-4BB3-ABD1-99AA93B8A68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B3F3-7047-48A9-87A3-894903A31AD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7577-726B-43C9-BC8C-93A99673728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D2A8-A105-4FC1-8AD3-24733D01945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8650-F650-4EA4-AD2B-7A9211FBA8D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5306-2F15-461C-8C99-667750FFF05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27B3-C45B-48FB-ABEC-BC701B7EEC0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3DB1-525F-491D-B808-A871D3FADF0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C6BE-5CBF-42F6-BE97-C54A3D8ECFE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D26B-B9B5-4364-9E29-1DC9DFB82FC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C951-2EBC-48E6-94B3-9DBBA4F14EA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708C-7FC0-40C7-B84F-DE7D4779D1B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8F06-0175-44F2-A0C4-2B2A3767A8A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7143-77C7-4E80-BDB4-C3D7018F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A8C1-F215-488B-99AB-B4D64852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6A55-1DE2-450F-8804-25B2C7B5C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B1B3-A2FF-4EE4-B69D-7B414799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59BF-DA85-4EF5-8898-04A05CCF5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7688-0989-4392-8CDE-1121689F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12E8-F5E3-44C0-A803-D435A643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6864-902D-40E0-B825-02F56E3F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FE84-6F22-4B4C-ABB8-F409EC98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7A68-89B7-4DB6-A693-270EDF76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9D17-EE66-4C4E-AA04-E282E8B6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C7FE-A605-446E-92C8-8944B910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C741-AA64-4724-9BF2-8B5304E5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22BD-3C9B-46EF-86B5-4C908BE8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D610-7600-4F4F-98E2-C25940CA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B478-8DF0-453C-8DA1-AAD36DCC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FC4C-703C-4FAF-826B-40F6C98E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4EDB-0A8D-4434-9DDD-5BB579D3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AA1B-B4EB-44A3-944A-5EDE3607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9398-4B70-4C78-8349-B2ABE045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3A90-ED29-4EEB-ABB7-526D3DEE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36EE-63AD-4158-8907-9E744038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B799-C058-4ACF-A3D9-5FE18B35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1F99-EED7-479B-B580-0664A539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9EF1-2A9E-4258-8CF2-1E2FF85DDEC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4423-C06F-4813-A1D6-BEB223ED6B1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g.gasos@ebf-fbe.eu" TargetMode="External"/><Relationship Id="rId2" Type="http://schemas.openxmlformats.org/officeDocument/2006/relationships/hyperlink" Target="mailto:g.gasos@ebf-fbe.eu" TargetMode="External"/><Relationship Id="rId3" Type="http://schemas.openxmlformats.org/officeDocument/2006/relationships/hyperlink" Target="mailto:g.gasos@ebf-fbe.eu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3142800"/>
            <a:ext cx="64818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Summary of EBF response to the </a:t>
            </a: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Basel Committee proposal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Gonzalo Gasos, EBF Adviser</a:t>
            </a:r>
            <a:br>
              <a:rPr sz="2800"/>
            </a:b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0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000"/>
            </a:br>
            <a:r>
              <a:rPr b="0" lang="fr-FR" sz="16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14360" y="259920"/>
            <a:ext cx="514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Real economy.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Objectives and challeng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A0AF-8098-4ABE-87DC-7EF1FC74CE6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00040" y="1571760"/>
            <a:ext cx="8229600" cy="48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EBF arguments with a credible analysis of the likely global macroeconomic impact of proposed regulatory chang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o do so in a time frame that will allow for an input into key decisions (e.g. before mid-year 2010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a framework for discussion of this topic in the broader public environ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ed regulatory changes ill-defined. Need for scenarios and simulation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ventional macro models not much help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data from reliable consistent source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9" name="Picture 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389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Summary of intended approach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0FD3-E2FC-470D-8A33-7ADCC3B503B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00040" y="1571760"/>
            <a:ext cx="8229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34" name="Group 13"/>
          <p:cNvGrpSpPr/>
          <p:nvPr/>
        </p:nvGrpSpPr>
        <p:grpSpPr>
          <a:xfrm>
            <a:off x="571680" y="2063880"/>
            <a:ext cx="8358120" cy="1769760"/>
            <a:chOff x="571680" y="2063880"/>
            <a:chExt cx="8358120" cy="1769760"/>
          </a:xfrm>
        </p:grpSpPr>
        <p:sp>
          <p:nvSpPr>
            <p:cNvPr id="135" name="Text Box 5"/>
            <p:cNvSpPr/>
            <p:nvPr/>
          </p:nvSpPr>
          <p:spPr>
            <a:xfrm>
              <a:off x="571680" y="2063880"/>
              <a:ext cx="1396440" cy="17697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dentify and quantify proposed change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6" name="AutoShape 7"/>
            <p:cNvSpPr/>
            <p:nvPr/>
          </p:nvSpPr>
          <p:spPr>
            <a:xfrm>
              <a:off x="2082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7" name="Text Box 8"/>
            <p:cNvSpPr/>
            <p:nvPr/>
          </p:nvSpPr>
          <p:spPr>
            <a:xfrm>
              <a:off x="2711520" y="2446920"/>
              <a:ext cx="132660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odel of banking sector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8" name="AutoShape 9"/>
            <p:cNvSpPr/>
            <p:nvPr/>
          </p:nvSpPr>
          <p:spPr>
            <a:xfrm>
              <a:off x="4071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4714920" y="2268360"/>
              <a:ext cx="1785960" cy="14486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Assump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cenario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imula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657252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7180920" y="2268360"/>
              <a:ext cx="174888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acro impact, especially growth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sp>
        <p:nvSpPr>
          <p:cNvPr id="142" name="Text Box 12"/>
          <p:cNvSpPr/>
          <p:nvPr/>
        </p:nvSpPr>
        <p:spPr>
          <a:xfrm>
            <a:off x="533520" y="4417920"/>
            <a:ext cx="7848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Expected end result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 magic number, but a framework (and supporting report) that will allow for discussion and debate, both with the public sector and within the private sector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Lots of sensitivity analysi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3" name="Picture 1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374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Modelling approach in outlin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E2B6-9649-4543-9930-08304D81D39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57200" y="1828800"/>
            <a:ext cx="822960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EBF is collaborating with the IIF to use a simple, spreadsheet-based model with a heavy emphasis on the banking sector. Five blocks: Euro area, U.K., U.S., Japan and Canada.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odels have four components: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balance-shee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 capital supply funct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profit and loss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acroeconomic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models allow a fairly precise articulation and quantification of the key regulatory changes being proposed and their simultaneous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side from providing some quantitative estimates of changes, the framework provides a helpful, historic dataset, upon which to base discuss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072040" y="2786040"/>
            <a:ext cx="3929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nd three key behavioral links: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Cost of bank capital/new issuanc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Private credit demand/lending rat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minal GDP/credit supply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9" name="Picture 7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410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DA92-430D-47CB-97C9-830BC9158AC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642960" y="1819440"/>
            <a:ext cx="8298000" cy="4109760"/>
            <a:chOff x="642960" y="1819440"/>
            <a:chExt cx="8298000" cy="4109760"/>
          </a:xfrm>
        </p:grpSpPr>
        <p:sp>
          <p:nvSpPr>
            <p:cNvPr id="154" name="Text Box 4"/>
            <p:cNvSpPr/>
            <p:nvPr/>
          </p:nvSpPr>
          <p:spPr>
            <a:xfrm>
              <a:off x="642960" y="2475720"/>
              <a:ext cx="1438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To achieve higher required capital ratio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5" name="AutoShape 5"/>
            <p:cNvSpPr/>
            <p:nvPr/>
          </p:nvSpPr>
          <p:spPr>
            <a:xfrm rot="2430600">
              <a:off x="2225160" y="42746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6" name="Text Box 6"/>
            <p:cNvSpPr/>
            <p:nvPr/>
          </p:nvSpPr>
          <p:spPr>
            <a:xfrm>
              <a:off x="2945160" y="2726280"/>
              <a:ext cx="122292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ssue new equity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4312080" y="285660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8" name="Text Box 8"/>
            <p:cNvSpPr/>
            <p:nvPr/>
          </p:nvSpPr>
          <p:spPr>
            <a:xfrm>
              <a:off x="5103360" y="2287080"/>
              <a:ext cx="143856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cost of funding to bank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9" name="AutoShape 9"/>
            <p:cNvSpPr/>
            <p:nvPr/>
          </p:nvSpPr>
          <p:spPr>
            <a:xfrm>
              <a:off x="6686280" y="32162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0" name="Text Box 10"/>
            <p:cNvSpPr/>
            <p:nvPr/>
          </p:nvSpPr>
          <p:spPr>
            <a:xfrm>
              <a:off x="7430400" y="2857320"/>
              <a:ext cx="1510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lending spread to private sector borrower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1" name="Text Box 12"/>
            <p:cNvSpPr/>
            <p:nvPr/>
          </p:nvSpPr>
          <p:spPr>
            <a:xfrm>
              <a:off x="2967480" y="3949200"/>
              <a:ext cx="131904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ncrease retained profit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2" name="AutoShape 13"/>
            <p:cNvSpPr/>
            <p:nvPr/>
          </p:nvSpPr>
          <p:spPr>
            <a:xfrm rot="19168800">
              <a:off x="2225160" y="323136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3" name="AutoShape 7"/>
            <p:cNvSpPr/>
            <p:nvPr/>
          </p:nvSpPr>
          <p:spPr>
            <a:xfrm>
              <a:off x="4383720" y="4511520"/>
              <a:ext cx="2661840" cy="215640"/>
            </a:xfrm>
            <a:prstGeom prst="rightArrow">
              <a:avLst>
                <a:gd name="adj1" fmla="val 50000"/>
                <a:gd name="adj2" fmla="val 308598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4" name="Rectangle 2"/>
            <p:cNvSpPr/>
            <p:nvPr/>
          </p:nvSpPr>
          <p:spPr>
            <a:xfrm>
              <a:off x="714600" y="5137920"/>
              <a:ext cx="8184960" cy="791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Do banks have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Which route to higher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pricing power to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    equity will be chosen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raise lending rate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5" name="AutoShape 13"/>
            <p:cNvSpPr/>
            <p:nvPr/>
          </p:nvSpPr>
          <p:spPr>
            <a:xfrm rot="19168800">
              <a:off x="2225160" y="226008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6" name="Text Box 6"/>
            <p:cNvSpPr/>
            <p:nvPr/>
          </p:nvSpPr>
          <p:spPr>
            <a:xfrm>
              <a:off x="2945160" y="1819440"/>
              <a:ext cx="1222920" cy="764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Cut RWA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4312080" y="1900080"/>
              <a:ext cx="4604400" cy="215640"/>
            </a:xfrm>
            <a:prstGeom prst="rightArrow">
              <a:avLst>
                <a:gd name="adj1" fmla="val 50000"/>
                <a:gd name="adj2" fmla="val 533806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68" name="Picture 2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403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4149-D695-4748-AA98-71FE6D5EAD8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500040" y="1643040"/>
            <a:ext cx="8501040" cy="4714560"/>
            <a:chOff x="500040" y="1643040"/>
            <a:chExt cx="8501040" cy="4714560"/>
          </a:xfrm>
        </p:grpSpPr>
        <p:sp>
          <p:nvSpPr>
            <p:cNvPr id="173" name="Text Box 4"/>
            <p:cNvSpPr/>
            <p:nvPr/>
          </p:nvSpPr>
          <p:spPr>
            <a:xfrm>
              <a:off x="793080" y="4472280"/>
              <a:ext cx="2491560" cy="10087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vailability of credit from non-bank sources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4" name="AutoShape 5"/>
            <p:cNvSpPr/>
            <p:nvPr/>
          </p:nvSpPr>
          <p:spPr>
            <a:xfrm rot="19807200">
              <a:off x="3358080" y="454356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4000320" y="3071880"/>
              <a:ext cx="1407600" cy="16185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ggregate whole economy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6" name="AutoShape 9"/>
            <p:cNvSpPr/>
            <p:nvPr/>
          </p:nvSpPr>
          <p:spPr>
            <a:xfrm>
              <a:off x="5410080" y="375804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7" name="Text Box 10"/>
            <p:cNvSpPr/>
            <p:nvPr/>
          </p:nvSpPr>
          <p:spPr>
            <a:xfrm>
              <a:off x="5996520" y="2900520"/>
              <a:ext cx="1392120" cy="19234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Nominal GDP driven by aggregate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8" name="Line 11"/>
            <p:cNvSpPr/>
            <p:nvPr/>
          </p:nvSpPr>
          <p:spPr>
            <a:xfrm>
              <a:off x="719640" y="1643040"/>
              <a:ext cx="7841520" cy="0"/>
            </a:xfrm>
            <a:prstGeom prst="line">
              <a:avLst/>
            </a:prstGeom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9" name="AutoShape 13"/>
            <p:cNvSpPr/>
            <p:nvPr/>
          </p:nvSpPr>
          <p:spPr>
            <a:xfrm rot="2058000">
              <a:off x="3431160" y="28288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grpSp>
          <p:nvGrpSpPr>
            <p:cNvPr id="180" name="Group 29"/>
            <p:cNvGrpSpPr/>
            <p:nvPr/>
          </p:nvGrpSpPr>
          <p:grpSpPr>
            <a:xfrm>
              <a:off x="795960" y="1643040"/>
              <a:ext cx="2781360" cy="2451960"/>
              <a:chOff x="795960" y="1643040"/>
              <a:chExt cx="2781360" cy="2451960"/>
            </a:xfrm>
          </p:grpSpPr>
          <p:sp>
            <p:nvSpPr>
              <p:cNvPr id="181" name="Line 15"/>
              <p:cNvSpPr/>
              <p:nvPr/>
            </p:nvSpPr>
            <p:spPr>
              <a:xfrm>
                <a:off x="795960" y="1829160"/>
                <a:ext cx="0" cy="192852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2" name="Line 16"/>
              <p:cNvSpPr/>
              <p:nvPr/>
            </p:nvSpPr>
            <p:spPr>
              <a:xfrm>
                <a:off x="795960" y="3757680"/>
                <a:ext cx="2418480" cy="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3" name="Line 17"/>
              <p:cNvSpPr/>
              <p:nvPr/>
            </p:nvSpPr>
            <p:spPr>
              <a:xfrm>
                <a:off x="1088640" y="2043360"/>
                <a:ext cx="1832040" cy="1356840"/>
              </a:xfrm>
              <a:prstGeom prst="line">
                <a:avLst/>
              </a:prstGeom>
              <a:ln w="19080">
                <a:solidFill>
                  <a:srgbClr val="f6801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4" name="Line 18"/>
              <p:cNvSpPr/>
              <p:nvPr/>
            </p:nvSpPr>
            <p:spPr>
              <a:xfrm flipV="1">
                <a:off x="1497960" y="229176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5" name="Line 19"/>
              <p:cNvSpPr/>
              <p:nvPr/>
            </p:nvSpPr>
            <p:spPr>
              <a:xfrm flipV="1">
                <a:off x="917640" y="184104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6" name="Text Box 20"/>
              <p:cNvSpPr/>
              <p:nvPr/>
            </p:nvSpPr>
            <p:spPr>
              <a:xfrm>
                <a:off x="2994480" y="3266280"/>
                <a:ext cx="366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7" name="Text Box 21"/>
              <p:cNvSpPr/>
              <p:nvPr/>
            </p:nvSpPr>
            <p:spPr>
              <a:xfrm>
                <a:off x="3137760" y="207756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8" name="Text Box 22"/>
              <p:cNvSpPr/>
              <p:nvPr/>
            </p:nvSpPr>
            <p:spPr>
              <a:xfrm>
                <a:off x="2531880" y="164304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9" name="Text Box 23"/>
              <p:cNvSpPr/>
              <p:nvPr/>
            </p:nvSpPr>
            <p:spPr>
              <a:xfrm>
                <a:off x="21880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0" name="Line 24"/>
              <p:cNvSpPr/>
              <p:nvPr/>
            </p:nvSpPr>
            <p:spPr>
              <a:xfrm>
                <a:off x="2322360" y="2986560"/>
                <a:ext cx="0" cy="77076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1" name="Line 25"/>
              <p:cNvSpPr/>
              <p:nvPr/>
            </p:nvSpPr>
            <p:spPr>
              <a:xfrm>
                <a:off x="1724040" y="2528280"/>
                <a:ext cx="0" cy="122904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2" name="Text Box 26"/>
              <p:cNvSpPr/>
              <p:nvPr/>
            </p:nvSpPr>
            <p:spPr>
              <a:xfrm>
                <a:off x="14554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3" name="Line 27"/>
              <p:cNvSpPr/>
              <p:nvPr/>
            </p:nvSpPr>
            <p:spPr>
              <a:xfrm flipH="1">
                <a:off x="1841400" y="3927240"/>
                <a:ext cx="346320" cy="0"/>
              </a:xfrm>
              <a:prstGeom prst="line">
                <a:avLst/>
              </a:prstGeom>
              <a:ln w="9360">
                <a:solidFill>
                  <a:srgbClr val="005cad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</p:grpSp>
        <p:sp>
          <p:nvSpPr>
            <p:cNvPr id="194" name="Text Box 10"/>
            <p:cNvSpPr/>
            <p:nvPr/>
          </p:nvSpPr>
          <p:spPr>
            <a:xfrm>
              <a:off x="8121960" y="3472200"/>
              <a:ext cx="879120" cy="7038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Real GDP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5" name="AutoShape 9"/>
            <p:cNvSpPr/>
            <p:nvPr/>
          </p:nvSpPr>
          <p:spPr>
            <a:xfrm>
              <a:off x="7462080" y="37666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6" name="Rectangle 2"/>
            <p:cNvSpPr/>
            <p:nvPr/>
          </p:nvSpPr>
          <p:spPr>
            <a:xfrm>
              <a:off x="500040" y="5572080"/>
              <a:ext cx="8337960" cy="7855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How much can non-banks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substitute for bank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97" name="Picture 4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Preliminary results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IIF approach</a:t>
            </a:r>
            <a:br>
              <a:rPr sz="3400"/>
            </a:b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00040" y="1643040"/>
            <a:ext cx="807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 the regulatory change scenario, the real GDP is projected to b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2.5% lower in the US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1.9% lower in Japan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4% lower in the Euro Area – the largest banking system -.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s of these 3 economies will need to raise $0.8 trillion of common equity and issue $3.7 trillion of long-term debt in 2010-2015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banks lending spread to the private sector in the Euro Area would increase as much as 180 bp at the peak (2013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ECEE-0E7E-439E-B154-971BCD9D6B7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Real bank lending rat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ore equity shadow price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989000" y="1643040"/>
            <a:ext cx="4789800" cy="2428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1984320" y="4214880"/>
            <a:ext cx="4802400" cy="2500200"/>
          </a:xfrm>
          <a:prstGeom prst="rect">
            <a:avLst/>
          </a:prstGeom>
          <a:ln w="0">
            <a:noFill/>
          </a:ln>
        </p:spPr>
      </p:pic>
      <p:sp>
        <p:nvSpPr>
          <p:cNvPr id="2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F6D9-8BA5-424C-A350-B183481D4C0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 credit growth to private sector (top)</a:t>
            </a:r>
            <a:br>
              <a:rPr sz="2600"/>
            </a:b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s’ return on equity (bottom)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20F6-94B1-401A-831B-888987A65CF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2143080" y="1714680"/>
            <a:ext cx="4659480" cy="2417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2143080" y="4286160"/>
            <a:ext cx="46436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GDP cumulativ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mployment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F45D-1FA7-406B-8101-FEA41952384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2071800" y="1714680"/>
            <a:ext cx="4811760" cy="2447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2071800" y="4272120"/>
            <a:ext cx="482760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anks for your atten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oubts, comments, opinions would be welcome 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g.gasos@ebf-fbe.eu</a:t>
            </a: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8DF1-69E8-4DA0-AB3F-B19EE7DE582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20" name="Picture 5" descr="Logo IIF.JPG"/>
          <p:cNvPicPr/>
          <p:nvPr/>
        </p:nvPicPr>
        <p:blipFill>
          <a:blip r:embed="rId4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F56A-28E3-4D1D-8BC8-7BD36D6283E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welcomes the willingness to strengthen the resilience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Firstly, need for improved supervis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wness and complexity of proposals require further analysis and a second consult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ay heed to the interplays between different measur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Assessment of the overall impac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3218-ECD5-462B-9485-01972E506C9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00040" y="193212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INCIPL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ation of banks’ lending capacity in the EU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sistency in regulations (single rulebook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national level playing fiel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anking sector competitive edge notably the ability to raise new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6B22-7C49-4A56-B4AD-34B470FC414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00040" y="191628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ransition perio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Grandfathering arrang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Minority interes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Deferred tax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ension fund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2246-0560-43A5-9D91-A9A8E16C1BD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39640" y="1628640"/>
            <a:ext cx="8229600" cy="49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overlapping el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mote the use of central clering counterparties without penalizing OTC derivativ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e the right incentives to risk manage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he appropriateness of Pillar 2: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everage ratio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apital buffer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AA67-C62E-401F-96E0-1DA0D4C7DC5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00040" y="209376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supports the provisioning based on expected los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 not the downturn probability of default in pillar 1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Restrictions to dividend pay-ou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xcessive credit growth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2952-D3F4-46E3-942F-0561A0F4C31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iquidity ratio accepted but need to review the detai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t stable funding ratio would distort maturity transform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re-thinking the NSFR propos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plays: the combination of liquidity ratios, capital buffers and stringent definition of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3142800"/>
            <a:ext cx="77724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ing the Cumulative Impact of Proposed Regulatory Changes 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Banking sector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56AB-6FB0-435F-8E46-5C19921CE5B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627200" y="1643040"/>
            <a:ext cx="59450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13:41Z</dcterms:created>
  <dc:creator>Gonzalo Gasos</dc:creator>
  <dc:description/>
  <dc:language>en-US</dc:language>
  <cp:lastModifiedBy>Viktorija Proskurovska</cp:lastModifiedBy>
  <dcterms:modified xsi:type="dcterms:W3CDTF">2010-06-01T07:14:05Z</dcterms:modified>
  <cp:revision>421</cp:revision>
  <dc:subject/>
  <dc:title>ICAAP Seminar Rome, 20-22 October 2009</dc:title>
</cp:coreProperties>
</file>